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F33-D2B3-4FA0-AE01-BAB120B9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580-F5C0-4FF5-B2DB-76A34206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424-68D3-448A-BA71-B77D93A0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22C-5678-4B2A-83C7-40A33C25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ACB-8098-4C6D-AE49-1A2C83EE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DFA-EEAC-4D43-99B7-3AFBF4E7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519-244E-49A9-AC00-9748DE08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8ED-5528-4B3A-870D-18570E6E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DF0-76B5-4CDE-BE05-33B3508E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9DD-5507-48BA-AA2A-DEC85364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2CE-E815-4BE7-8F02-4297F6C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E06-5D54-4CF9-903A-0C693EB0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4AFD-9EA1-4E5E-B7C2-BD07492913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ataman@tsuzumi.ucsd.edu" TargetMode="External"/><Relationship Id="rId2" Type="http://schemas.openxmlformats.org/officeDocument/2006/relationships/hyperlink" Target="mailto:dataman@tsuzumi.ucsd.edu" TargetMode="External"/><Relationship Id="rId3" Type="http://schemas.openxmlformats.org/officeDocument/2006/relationships/hyperlink" Target="mailto:dataman@tsuzumi.ucsd.ed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change model configurations (domain and perio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ying rsim scrip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3"/>
          <p:cNvSpPr/>
          <p:nvPr/>
        </p:nvSpPr>
        <p:spPr>
          <a:xfrm>
            <a:off x="900000" y="1260360"/>
            <a:ext cx="7272360" cy="4474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PROJ=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TRUTH=3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RIENT=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DELX=3000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DELY=3000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CENLAT=3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CENLON=15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LFTGRD=6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BTMGRD=2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_SIG_PLATFORM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ata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_SIG_FTP=sf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_SIG_GLB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r1/2000/200001/sig.2000010100.ie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_SFC_GLB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r1/2000/200001/sfc.2000010100.ie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_RESOLUTION=t62k2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_SFC_FILE_TYPE=osu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226040" y="1268280"/>
            <a:ext cx="23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main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change this 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6"/>
          <p:cNvSpPr/>
          <p:nvPr/>
        </p:nvSpPr>
        <p:spPr>
          <a:xfrm>
            <a:off x="6674400" y="435600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the initial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"/>
          <p:cNvSpPr/>
          <p:nvPr/>
        </p:nvSpPr>
        <p:spPr>
          <a:xfrm>
            <a:off x="3492360" y="4221000"/>
            <a:ext cx="1043280" cy="370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ying rsim scrip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3"/>
          <p:cNvSpPr/>
          <p:nvPr/>
        </p:nvSpPr>
        <p:spPr>
          <a:xfrm>
            <a:off x="900000" y="1260360"/>
            <a:ext cx="7272360" cy="52045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 Base field analysis sigma fi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_SIG_PLATFORM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ata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_SIG_FTP=sf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_SIG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r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\$YYYYDD/\$YYYYF\$MMF/sig.\$YYYYF\$MMF\$DDF\$HHF.ie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_RESOLUTION=t62k2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sst/ice/sn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T_PLATFORM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ata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T_FTP=sf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T_ANL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sfcan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\$YYYY/sst.gri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T_ANL_T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sfcan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$YYYYS/sst.gri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CE_PLATFORM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ata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CE_FTP=sf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CE_ANL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sfcan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\$YYYY/ice.gri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CE_ANL_T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sfcan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$YYYYS/ice.gri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6168600" y="159228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al boundary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"/>
          <p:cNvSpPr/>
          <p:nvPr/>
        </p:nvSpPr>
        <p:spPr>
          <a:xfrm>
            <a:off x="6165000" y="363528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T and sea ic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テキスト ボックス 4"/>
          <p:cNvSpPr/>
          <p:nvPr/>
        </p:nvSpPr>
        <p:spPr>
          <a:xfrm>
            <a:off x="6157800" y="270828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may choose R2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lateral bound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ying rsim scrip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900000" y="1260360"/>
            <a:ext cx="7272360" cy="52045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#ARCHIVE_PLATFORM=kana@fubuk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#ARCHIVE_FTP_PROTOCOL=sf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#ARCHIVE_DIR=/fubu4/kana/@HOST_NAME@/$RUNNAME/\$YYY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 rfcst control stat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 INCHOUR is forecast hour by one rfcst execu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TAT_REG_SPRING=18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TAT_REG_SUMMER=2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TAT_REG_FALL=18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TAT_REG_WINTER=1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STING_HOUR=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HR_REG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HR_REG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INCHOUR=2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SFCX=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POST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PGB=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RESTART=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CST_RESTART=y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4"/>
          <p:cNvSpPr/>
          <p:nvPr/>
        </p:nvSpPr>
        <p:spPr>
          <a:xfrm>
            <a:off x="6166800" y="126036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ent them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5"/>
          <p:cNvSpPr/>
          <p:nvPr/>
        </p:nvSpPr>
        <p:spPr>
          <a:xfrm>
            <a:off x="6169320" y="335772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 time step (secon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6"/>
          <p:cNvSpPr/>
          <p:nvPr/>
        </p:nvSpPr>
        <p:spPr>
          <a:xfrm>
            <a:off x="6166440" y="421164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al for later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undary data (hou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8"/>
          <p:cNvSpPr/>
          <p:nvPr/>
        </p:nvSpPr>
        <p:spPr>
          <a:xfrm>
            <a:off x="6160320" y="530064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al for surface dat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(hou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9"/>
          <p:cNvSpPr/>
          <p:nvPr/>
        </p:nvSpPr>
        <p:spPr>
          <a:xfrm>
            <a:off x="6163920" y="5950080"/>
            <a:ext cx="26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al for upper air dat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(hou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線コネクタ 11"/>
          <p:cNvSpPr/>
          <p:nvPr/>
        </p:nvSpPr>
        <p:spPr>
          <a:xfrm flipH="1">
            <a:off x="3995640" y="3541680"/>
            <a:ext cx="2160720" cy="171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右中かっこ 12"/>
          <p:cNvSpPr/>
          <p:nvPr/>
        </p:nvSpPr>
        <p:spPr>
          <a:xfrm>
            <a:off x="3635280" y="3213000"/>
            <a:ext cx="216000" cy="9986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998640"/>
              <a:gd name="textAreaBottom" fmla="*/ 993240 h 99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5"/>
                  <a:pt x="10800" y="389"/>
                </a:cubicBezTo>
                <a:lnTo>
                  <a:pt x="10800" y="10411"/>
                </a:lnTo>
                <a:cubicBezTo>
                  <a:pt x="10800" y="10606"/>
                  <a:pt x="16200" y="10800"/>
                  <a:pt x="21600" y="10800"/>
                </a:cubicBezTo>
                <a:cubicBezTo>
                  <a:pt x="16200" y="10800"/>
                  <a:pt x="10800" y="10995"/>
                  <a:pt x="10800" y="11189"/>
                </a:cubicBezTo>
                <a:lnTo>
                  <a:pt x="10800" y="21211"/>
                </a:lnTo>
                <a:cubicBezTo>
                  <a:pt x="10800" y="2140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15"/>
          <p:cNvSpPr/>
          <p:nvPr/>
        </p:nvSpPr>
        <p:spPr>
          <a:xfrm flipH="1" flipV="1">
            <a:off x="2987280" y="4365720"/>
            <a:ext cx="302436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線コネクタ 17"/>
          <p:cNvSpPr/>
          <p:nvPr/>
        </p:nvSpPr>
        <p:spPr>
          <a:xfrm flipH="1">
            <a:off x="2340000" y="5624640"/>
            <a:ext cx="3672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線コネクタ 19"/>
          <p:cNvSpPr/>
          <p:nvPr/>
        </p:nvSpPr>
        <p:spPr>
          <a:xfrm flipH="1" flipV="1">
            <a:off x="2340000" y="5877000"/>
            <a:ext cx="3672000" cy="288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20"/>
          <p:cNvSpPr/>
          <p:nvPr/>
        </p:nvSpPr>
        <p:spPr>
          <a:xfrm>
            <a:off x="4436640" y="49323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period (hou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線コネクタ 22"/>
          <p:cNvSpPr/>
          <p:nvPr/>
        </p:nvSpPr>
        <p:spPr>
          <a:xfrm flipH="1">
            <a:off x="2484000" y="5116680"/>
            <a:ext cx="1800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 new rsi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900000" y="1700280"/>
            <a:ext cx="7272360" cy="580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_ru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rs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paration: Set password-free access to dataman@tsuzumi.ucsd.edu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public SSH key (id_rsa.pub) for your imtf4 accou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your id_rsa.pub in authorized_key file in tsuzum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900000" y="1989000"/>
            <a:ext cx="727236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sh-keygen –t r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it enter key some times. Do not set any passphra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4"/>
          <p:cNvSpPr/>
          <p:nvPr/>
        </p:nvSpPr>
        <p:spPr>
          <a:xfrm>
            <a:off x="900000" y="3376440"/>
            <a:ext cx="7272360" cy="3354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ftp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dataman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“ecpc_data” for passwo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cd .ssh     # do not forget “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get authorized_k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q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at ~/.ssh/id_rsa.pub &gt;&gt; authorized_keys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# TWO “&gt;” !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ftp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urier New"/>
                <a:hlinkClick r:id="rId2"/>
              </a:rPr>
              <a:t>dataman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“ecpc_data” for passwo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cd .s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put authorized_k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q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ftp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urier New"/>
                <a:hlinkClick r:id="rId3"/>
              </a:rPr>
              <a:t>dataman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time, you should not be asked for passwo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5"/>
          <p:cNvSpPr/>
          <p:nvPr/>
        </p:nvSpPr>
        <p:spPr>
          <a:xfrm>
            <a:off x="2754360" y="44280"/>
            <a:ext cx="359892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ip this process when you use imtf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model do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“MODEL_DEFINE” in configure-model file in rsm direc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e follow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don’t change grid numbers (X, Y, Z), you don’t have to recompile the model. Only change and execute configure-model 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900000" y="3216240"/>
            <a:ext cx="7272360" cy="1067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ake cle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ak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new do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edit new domain direc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it domainspec and define.h if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domain directory in configure-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gure-model ; make clean ;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_DEF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DEL_DEFINE=/work1/RSM/kei4/def/def_rsm/rsm54x55_g62k28_usaw_60km_st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vention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model_name][x_grid]x[y_grid]_[global_data_res]_[domain_name]_[resolution]_[projection]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model_name]: rsm (almost fix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x_grid]: 54 (variou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y_grid]: 55 (variou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global_data_res]: g62k28 (almost fix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domain_name]: usaw (variou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resolution]: 60km (variou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projection]: str (or mer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spec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PROJ: mapping projection inde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 for Mercator projection (M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for north polar stereographic projection (NPS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1 for south polar stereographic projection (SPS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TRUTH: latitude where the map plane cuts through the earth’s surface (only for RPROJ=1/-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RIENT: domain orientation longitude (only for PROJ=1/-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DELX: grid spacing in me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DELY: grid spacing in me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CENLAT: domain center latitude for 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CENLON: domain center longitude for 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LFTGRD: a grid number in x-dir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BTMGRD: a grid number in y-direc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model do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rsm_runs, and execute prmap for your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3"/>
          <p:cNvSpPr/>
          <p:nvPr/>
        </p:nvSpPr>
        <p:spPr>
          <a:xfrm>
            <a:off x="900000" y="2781360"/>
            <a:ext cx="727236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_ru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scr t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./libs/etc/prmap t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integration peri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rsim script in rsm_runs direc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rsim scrip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3"/>
          <p:cNvSpPr/>
          <p:nvPr/>
        </p:nvSpPr>
        <p:spPr>
          <a:xfrm>
            <a:off x="900000" y="2208240"/>
            <a:ext cx="7272360" cy="580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_ru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scr rs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ying rsim scrip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3"/>
          <p:cNvSpPr/>
          <p:nvPr/>
        </p:nvSpPr>
        <p:spPr>
          <a:xfrm>
            <a:off x="900000" y="1260360"/>
            <a:ext cx="7272360" cy="4231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UNNAME=R_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CST_NPES=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 Initial year, month, day, ho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YYYS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MS=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DS=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HS=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 ending year, month, day, ho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YYYE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ME=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DE=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HE=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4"/>
          <p:cNvSpPr/>
          <p:nvPr/>
        </p:nvSpPr>
        <p:spPr>
          <a:xfrm>
            <a:off x="4220640" y="1268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5"/>
          <p:cNvSpPr/>
          <p:nvPr/>
        </p:nvSpPr>
        <p:spPr>
          <a:xfrm>
            <a:off x="4235760" y="176364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of CPUs (should not be change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6"/>
          <p:cNvSpPr/>
          <p:nvPr/>
        </p:nvSpPr>
        <p:spPr>
          <a:xfrm>
            <a:off x="4221360" y="285264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 and end of integrat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set them too lo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7:30:37Z</dcterms:created>
  <dc:creator>kei</dc:creator>
  <dc:description/>
  <dc:language>en-US</dc:language>
  <cp:lastModifiedBy>kei</cp:lastModifiedBy>
  <dcterms:modified xsi:type="dcterms:W3CDTF">2010-08-15T14:11:53Z</dcterms:modified>
  <cp:revision>22</cp:revision>
  <dc:subject/>
  <dc:title>How to change model configurations (options, domain, period)</dc:title>
</cp:coreProperties>
</file>